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png" ContentType="image/png"/>
  <Override PartName="/ppt/media/image2.jpeg" ContentType="image/jpeg"/>
  <Override PartName="/ppt/media/image16.wmf" ContentType="image/x-wmf"/>
  <Override PartName="/ppt/media/image8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A6A-67B6-42EB-84A9-01E8794D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FC0-7F49-46E8-8CD0-A8C9FD6C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793-4D2C-407E-A4AE-41547E71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F33-2D8A-4C0C-9AD8-7FE492F5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A94E2-299C-4DE1-814C-7B81DC2C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85B6F-A870-40E5-B4B0-31080202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3548-B219-476C-B5F0-D99FBB9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055FB-18E2-45DF-9B55-CCA16AD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F095E-6558-4150-A36E-38295C5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6B94-377D-4001-AEAA-9B558886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4A86F-D920-46E5-97C2-410C114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6C8-5917-4119-BB68-56770F0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E1D54-D9D1-4F82-BD12-56828D3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BD6A8-A572-454D-8C1E-1F63A23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6308B-315E-4967-B805-459205A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C2536-89EC-4D75-8D83-2E71C31E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F23C4-00DF-45C1-B9C3-9B3282FB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8A2-26C1-45BE-B239-3A23E5F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A6-8285-4583-8168-698A618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BC7-D758-4C51-8071-EFFFE1D1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602-68B4-45B5-9B0D-A77848DA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B88-C3F7-4F72-9A38-49FB3D8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476-8321-4E7C-96F7-C688CF3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2E2-499D-4149-822D-AF2D0BA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BA70-AA77-41FE-A722-61459B781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BCE-41F4-4A91-8A0F-ADF883B52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One:  New World Beginn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 Slides f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American Pageant, 1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onstructed by Mr. Frec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umbian Exchange – animals &amp;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320" y="762120"/>
            <a:ext cx="8991360" cy="265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320" y="3713040"/>
            <a:ext cx="8991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in sets up sho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boa reaches the Pacific via Panama (15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ce de Leon explores Florida in 1513 in search of the “Fountain of You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tes “conquers” the Aztec in 1521, destroys Tenochtitlan and erects Mexico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zzaro “conquers” the Inca in 15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ado explores the American SW (1540-42) in search of the “Seven Cities of Go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oto explores the Gulf Coast (1539-154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0"/>
            <a:ext cx="8839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S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95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ologic Time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,000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adian Shield rises above sea le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Bridge from Siberia to Alaska “ope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,000 – 17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tion takes place over the land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,000 years 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Bridge from Siberia to Alaska “clos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vis, NM and Monte Verde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12600"/>
            <a:ext cx="6858000" cy="6845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19520" y="3962520"/>
            <a:ext cx="1371600" cy="106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05120" y="1143000"/>
            <a:ext cx="1046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9920" y="87480"/>
            <a:ext cx="3047760" cy="227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4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lam controls route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ces, silk, &amp; tea introduced                 to Europe via the Crusades (1000 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0 AD – Islam controls Middle East, Italy becomes middle man in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ugal seeks “short cut” around 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s trade in gold and slaves with African states, slowly moves down the c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lam controls route Eas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8537" r="2393" b="1084"/>
          <a:stretch/>
        </p:blipFill>
        <p:spPr>
          <a:xfrm>
            <a:off x="2438280" y="646200"/>
            <a:ext cx="6553440" cy="6211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00000">
            <a:off x="4207320" y="-4209120"/>
            <a:ext cx="729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le Portugal looks for a short-c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43200" cy="203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238880" y="4267080"/>
            <a:ext cx="1905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rtugal goes sai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ry the Navig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s reaches Cape of Good Hope in 14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 Gama reaches India via ship in 14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1114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in’s Banner Year - 149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4197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lims are kicked out of Spain (Grena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&amp; I are married, unifying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umbus sails and “discovers Ameri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280" y="291960"/>
            <a:ext cx="8839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Trans-Atlantic Explorations (1000-15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umbian Exchange – food (old vs. new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696960"/>
            <a:ext cx="883944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2:07:45Z</dcterms:created>
  <dc:creator>Brent J. Freccia</dc:creator>
  <dc:description/>
  <dc:language>en-US</dc:language>
  <cp:lastModifiedBy>Authorized User</cp:lastModifiedBy>
  <dcterms:modified xsi:type="dcterms:W3CDTF">2007-08-29T20:39:40Z</dcterms:modified>
  <cp:revision>3</cp:revision>
  <dc:subject/>
  <dc:title>Chapter One:  New World Beginnings</dc:title>
</cp:coreProperties>
</file>